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D6BC-5734-4356-9FE0-377A3655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B9DA-34F6-4DE8-BF10-0BA40838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2913-0478-4AB1-96C4-842BC1FC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A57B-A683-4B88-B276-728990D5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3E4-F7AA-4FC0-B57B-00F5460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D484-4B9E-405D-BFD0-620FA4D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0DDD-79F2-4A83-B24C-37CA8417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6A05-9A35-44ED-941F-F5365B60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463B-D888-40CC-9989-C834D65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E347-F234-48C2-81E8-FADDDD0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0E44-757C-43E0-8520-FFBA8E9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6512-D9A8-4C1D-98A8-DF22258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247-F4A8-471D-801E-273417D5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B84F-7557-4E84-9CEC-3D1CD65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F56D-C652-4A27-9C46-2F14ADC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2B92-90BC-4DC3-AADD-4B6EDC9C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52E-D059-466C-AB72-2EBA8DDB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D56C-54F8-4DB0-99D3-F6FA35D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702E-562E-4F8F-B909-C79C58B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B2B4-8AF8-40CC-A07A-D3F24BAA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EAC9-392E-4E1F-8749-978F5C7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D677-9A34-4329-8B39-B9DB338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0853-ED25-48EA-AD5F-826AAC5A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FF4C-AF78-4014-B93C-2506AB4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31D-72DC-4647-9A69-93E33C800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4721-3C48-4775-ABDD-98825876BD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Aminosäure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on: Imke Spö. und Ja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stellu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m Abbau der Proteine zu einem Aminosäuregemisch, die durch spezifische Verfahren isoliert werden 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der Umsetzung von Halogencarbonsäuren mit Ammoni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s </a:t>
            </a:r>
            <a:r>
              <a:rPr b="1" lang="de-DE" sz="2800" spc="-1" strike="noStrike">
                <a:solidFill>
                  <a:srgbClr val="ffffff"/>
                </a:solidFill>
                <a:latin typeface="Garamond"/>
              </a:rPr>
              <a:t>Miller-Experiment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zeigte, wie die Aminosäuren und andere Moleküle zu Beginn der Erdgeschichte entstanden sein könn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ndprodukte: Teer, unbedeutende Carbonsäuren, Aminosäuren (u.a. Glycin und Alani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ei veränderter Zusammensetzung auch Kohlenhydrate, Nucleotide und Fettsäu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969 fand man dieselbe Aminosäurezusammensetzung in einem Meteoriten in Australi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51640" y="5589720"/>
            <a:ext cx="2592360" cy="790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 wird erhit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54920" y="3573360"/>
            <a:ext cx="208908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serdampf steigt 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45080" y="476280"/>
            <a:ext cx="35989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aktionska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than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125360"/>
            <a:ext cx="2521080" cy="79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tstehung der Aminosäu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NA 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nd zwei in helixform umeinander gewundene Doppelsträ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esteht aus Basen (Adenin, Guanin, Cytosin, Thymin), Zucker und Phosph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peichert sämtliche für jeden Menschen individuelle Erbinformationen, aufgrund dessen ergeben sich die vielen wissenschaftlichen Einsatzgebi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riminalbi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aterschfts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NA-Fingerprint-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rchäologie und Evolutionsforsch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s Nahrungsergänzungsmittel für Sport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ielen lieben Dank für eure Aufmerksamke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 Schlu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nktio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scher Aufba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inteilung der Grup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äure-Base-Eigenscha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elle Aminosäu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stel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A /Allgem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ssenschaftlicher Nut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gem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rganische Säu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arbonsäuren deren funktionelle Gruppen sowohl eine Carboxyl- als auch eine Aminogruppe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sten Bausteine der Prote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20 verschiedene Aminosäuren in den Protei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xistieren auf der Erde bereits seit 3 Mrd. Jahren (auch in Mondgestein und Meteori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ktio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fbau von Peptiden und Proteinen, aus denen wiederum Muskulatur, Zellwände, Hormone, Enzyme etc. aufgebau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 der Neurochemie spielen Aminosäuren und ihre Derivate eine wichtige Rolle als Neurotransmi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uffer= sind in der Lage den pH-Wert des Gewebes zu reguli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scher Aufba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äure mit einer Carboxyl- und Aminogru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infachste ist das Gl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Um daraus weitere aufzubauen, wird ein H-Atom am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-C-Atom abgespalten und durch eine Seitenkette (-R) ersetz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  <a:ea typeface="Arial"/>
              </a:rPr>
              <a:t>Seitenkette bestimmt die chem. und physikalischen Eigenschaften der Aminosä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nteilung der Grupp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Neutrale Aminosäuren: Glycin, Alanin, Serin, Threonin, Valin, Leucin, Isoleuc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aure Aminosäuren enthalten zusätzlich eine Carboxylgruppe. Zu ihnen gehören: Arpartat, Asparagin, Glutamat, Glutam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Baische Aminosäuren enthalten zusätzlich eine Aminogruppe. Zu ihnen zählen: Arginin, Lysin, Hydroxylys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olar: (hydrophil) Seitenkette enthält eine Hydroxyl- oder Sulfhydrylgruppe z.B. Ser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Unpolar: (hydrophob) Seitenkette enthält Kohlenwasserstoffreste z.B. Alan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äure-Base-Eigenschaf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Ungeladener Zustand existiert praktisch nic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ind Zwitterionen (Ampholyte), d.h. reagieren sowohl als Base als auch als Sä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durch Pufferfunktion des pH-Wertes im Kör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rhöhung des pH-Wertes: Wasserstoffion wird an die 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Gruppe abgegeben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positiven Kation (N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Garamond"/>
                <a:ea typeface="Arial"/>
              </a:rPr>
              <a:t>3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  <a:ea typeface="Arial"/>
              </a:rPr>
              <a:t>Erniedrigung des pH-Wertes: Abgabe eines Wasserstoffions der COOH Grupp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→ Zwitterion wird zum negativ geladenen Anion (COO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Weitere wichtige Aufgabe,  gerät der pH-Wert des Gewebes nur minimal aus dem Gleichgewicht, werden viele Körperunktionen beeinträchtigt → T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748720" cy="2820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692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äure-Base-Verhal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sentielle Aminosäu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nnen vom Körper nicht selbst synthetisiert werden, sondern müssen über die Nahrung aufgenommen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i-essentiell: müssen nur bei erhöhtem Bedarf (z-B. Schwangerschaft) zugeführt we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gel führt zu einem Stocken der Eiweißsyn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→ bedrohliche Mangelerscheinu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7:05:57Z</dcterms:created>
  <dc:creator>Imke</dc:creator>
  <dc:description/>
  <dc:language>en-US</dc:language>
  <cp:lastModifiedBy>Imke</cp:lastModifiedBy>
  <dcterms:modified xsi:type="dcterms:W3CDTF">2006-11-16T05:26:01Z</dcterms:modified>
  <cp:revision>15</cp:revision>
  <dc:subject/>
  <dc:title>Aminosäuren</dc:title>
</cp:coreProperties>
</file>